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04B-15D6-42E3-ADB6-D3A37538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1B3-02AC-450C-8166-929C0B66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82F-EDB4-4155-8972-080CB1EC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FEC-A47F-4443-8988-A6455D6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FD5-1599-499A-BC92-B5C56F37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D2A-0D20-4D70-82E4-B6CD782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837-3E74-489E-99AC-4915C458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1C7-FF1B-4F63-9C9F-634AF937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75A-F37D-46AB-BEA8-38DD36EE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390-CB8E-4606-A858-5DDD912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2F6-0DAE-46BA-B7F1-1EF5D7D4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122-B2D2-4FB3-A918-F791624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B62F2-7A45-4B42-B76A-E36C3B310B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ECE36-EE12-4855-AB1B-CF7D03B13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age001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6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7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20.jpg"/>
          <p:cNvPicPr/>
          <p:nvPr/>
        </p:nvPicPr>
        <p:blipFill>
          <a:blip r:embed="rId1"/>
          <a:stretch/>
        </p:blipFill>
        <p:spPr>
          <a:xfrm>
            <a:off x="0" y="262080"/>
            <a:ext cx="6858000" cy="86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2314440" y="3122640"/>
            <a:ext cx="237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3240">
                  <a:solidFill>
                    <a:srgbClr val="f2f2f2"/>
                  </a:solidFill>
                  <a:miter/>
                </a:ln>
                <a:gradFill rotWithShape="0">
                  <a:gsLst>
                    <a:gs pos="0">
                      <a:srgbClr val="f79646"/>
                    </a:gs>
                    <a:gs pos="100000">
                      <a:srgbClr val="f9b47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fde9d9">
                      <a:alpha val="50000"/>
                    </a:srgbClr>
                  </a:outerShdw>
                </a:effectLst>
                <a:latin typeface="Garamond"/>
              </a:rPr>
              <a:t>The End</a:t>
            </a:r>
            <a:endParaRPr b="1" lang="en-US" sz="5400" spc="1" strike="noStrike">
              <a:ln w="3240">
                <a:solidFill>
                  <a:srgbClr val="f2f2f2"/>
                </a:solidFill>
                <a:miter/>
              </a:ln>
              <a:gradFill rotWithShape="0">
                <a:gsLst>
                  <a:gs pos="0">
                    <a:srgbClr val="f79646"/>
                  </a:gs>
                  <a:gs pos="100000">
                    <a:srgbClr val="f9b47b"/>
                  </a:gs>
                </a:gsLst>
                <a:lin ang="5400000"/>
              </a:gradFill>
              <a:effectLst>
                <a:outerShdw dist="153753" dir="2700000" blurRad="0" rotWithShape="0">
                  <a:srgbClr val="fde9d9">
                    <a:alpha val="5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284040"/>
            <a:ext cx="6858000" cy="85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2:37:11Z</dcterms:created>
  <dc:creator>Beverly Moshier</dc:creator>
  <dc:description/>
  <dc:language>en-US</dc:language>
  <cp:lastModifiedBy>Beverly Moshier</cp:lastModifiedBy>
  <dcterms:modified xsi:type="dcterms:W3CDTF">2012-03-05T12:53:17Z</dcterms:modified>
  <cp:revision>1</cp:revision>
  <dc:subject/>
  <dc:title>Slide 1</dc:title>
</cp:coreProperties>
</file>